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explode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2F1-1CF8-4514-86D4-347A8DA8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5D9-F2F4-4390-AD99-190FD953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B6F54C-41DF-4C3A-9F89-D2D3139A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CDCEAC-A421-4FDF-BFF6-2CB464BF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69BA6B-F154-4A09-A3E3-986B8638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1755D3-2281-45E0-AAE7-4338DAD5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18AAEF-A5A7-4816-871F-9671CB5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653D4F-BAA3-48A6-BB59-3C4EF168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528677-8259-4338-8511-D5FC29A8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9E88F3-0BC0-4F45-998E-A0706DEC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60ED2A-B6D7-45CC-83CD-1F8C4301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366-4A9D-4CE9-A034-2A462265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4E1-8CB5-4E9C-BD22-397F736C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3245A-6CAF-4F8D-8C96-31722BDF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AE040-092B-4A0B-BB21-4B58047F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74E7F-0DDA-4516-99F7-E49DA394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560CB-0063-4361-BF6B-E58D5537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E8A9D-6209-4A87-A893-FCF09FF0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19650-D355-4D36-968E-6DEE028A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8B993-251D-42CB-9784-3FCF4C9E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503-D630-49F1-9994-5E4FCB7D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E1432-A952-4C43-A7D3-E9C38E72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0687C-9AB0-4273-B030-DE26DC9F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8771A-04F9-48F0-93C0-BA0C3350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0D030-0385-4B48-A4CD-4B3775A0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8561B-ABDA-475E-8F7D-6E3C7AE9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D5BC2-DA94-4ED9-9CBC-88FAD76B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F457-C12E-45EA-8873-D847361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700F-492E-4297-A544-C1887D00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2912-45EF-4158-B758-A40244B2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9700-7B15-40FA-9F99-79D67B83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423-6187-4B95-86D5-EDA75344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1030A-06CC-46F7-9813-14222A38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0F4D-0C7E-404C-9CF6-56ECAF9E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A041-64BC-4160-BFC9-A496E55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9081-CA6B-46F4-9CEC-883CF89D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5BF1-1329-4A98-BA84-CD9C51F2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642D-CBC9-4F3A-B2EF-920C0D79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89B3-79C1-4060-BFF5-5081D277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AEC26-E06F-4A20-BAD1-8C5054A0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14150-1E0C-4324-8631-E9292B69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72442-8674-4646-9CB3-6971D339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A0D-D9FF-474C-8F0D-E946A3CF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E53BD-9F37-4041-94CA-48004FB4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9AC15-0476-4868-A5B1-21CA052A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AC121-4E9F-4E4D-B5E0-6EE6F652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FEC18-9394-4467-9ED3-A29312AF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C24BE-3324-4180-9B1A-D595DE46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BF4DF-2B66-4AD6-B3E7-E4AAB301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FC415A-B1B3-4DC8-B377-4AD6B12F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869D88-A774-4684-B3E0-56E2C34A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FC54F-1E17-4D9F-BEED-0397D8FA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FE542-6013-4331-B5D5-5090E506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44F-EE9C-4C3A-AFDA-A18E975B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6A28D-B59D-47D2-9EBB-8DA0A8A6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FB944-CE85-4B2B-A0B9-79B358FE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41DA1-91E5-40D1-8B35-F65B3072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3DBE7-D052-42CC-B4A9-AEC1219B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FAB27-E089-4F59-91CC-374AF0DE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0E228-E369-4CAC-BE29-11359111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D97C2-366D-4E24-8374-22F0ACE3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7F67-1B74-4F9E-AC89-EE7079C5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D8024-59A9-4FFD-98D7-587F88F0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50FEE-D9B5-4585-9AA6-29E463ED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C89-FE20-4C11-A95A-FF90A20B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2BB04-A4E9-4B2F-9AC8-811D524E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C1444-BC0F-4CBC-B166-18503E3F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10654-7812-4EC7-86F7-4F9C0727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16E20-766A-46A2-A28C-EFDCCEAA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29F31-D073-4459-B2FC-485D72E4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C29AA-6B86-4824-AFF6-73EC36CB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CF299-3800-44E2-BD4B-0B0670D2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52EF7-8D7C-4AE0-88C3-ACC49EB3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310F9-4C5F-410D-B02B-D367D647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DBA58-7E40-4EAE-BF8F-A70D2856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773-33AB-4317-9DF3-4D7769F8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BBF0F-7637-491C-8428-FE22623D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2F7ED-FA03-4E9A-B3E5-22757A72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DC288-4ED0-48C1-B47D-42F36A6F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6E5AB-A437-4E28-8BE3-A8C17DA0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5BACE-F9F3-4A99-A530-C9DDFDA7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ACC95-EB8D-4268-A636-C0D2767A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BD729-4C73-4472-8707-E10D6AD7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81669-7E1E-4864-BD26-73A930AD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E2B0E-871E-4149-8192-C3E020AE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E15F4-CCA3-411B-B432-6D8F5426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4F2-5D1E-4636-BAD7-F57FB234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4D6D2-DF7D-4FD0-A0A5-DE19F5C4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DEE57-2144-42A1-BEDA-0A1374C8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45997-FAF9-4115-B469-F9E1004C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F679A-F4D4-4D4E-8134-3A2AD4EE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6ADA3-D903-40E1-A21C-CB803E56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42106A-22B6-4C2C-8C8F-EDB9368D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D8EF6A-625E-49BC-8327-EB944516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CB3225-36ED-46CD-8A89-FA6C096C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BD175A-2D68-4E3B-8D41-0A8CC2C1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BA695A-4DB5-4FA5-BBD2-9021C2AD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A58-32DC-4AAB-87A6-121CC59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C1DEC-E043-417C-B408-A9B0A121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620C06-FE57-4A9B-ACD3-4D1B4F4C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2231D7-7C69-44FD-A4E0-B816B428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7897F6-1158-46BE-8156-3E339F5C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A0244F-0E28-49DA-9F75-C335D0A9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C58B95-12DB-4A15-87AE-9D61DB26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4BE408-8C17-4128-991D-3CC814F8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55315B-DDAD-492A-99E3-00C1BA4C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A75EC9-7E2A-4D3D-9F09-A42AC68F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FD8D9B-02B6-4E34-8572-E7EC71E4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D9ED-5CD2-4F0E-8CFA-F855CAE2B91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7721-BC1C-4979-8D15-278A321750F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559E-1099-4AAA-8EFD-85EA24CB9D9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52DB-1682-484A-BD34-F70745EC9AD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C5CA-73E8-4AD3-8F0E-475EAC6D6E8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4537-581B-4F84-B1AA-F2A9A306CB8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81B9-7A58-4CC8-8D78-8A57B48BCC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E9FB-E7F4-4B36-BE95-4D5F50D74F2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0A6C-1530-4B1D-8553-3283C74A194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64400" cy="2225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John Perritan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esentation by Zach Hafn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cover dir="d"/>
    <p:sndAc>
      <p:stSnd>
        <p:snd r:embed="rId2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genre of this book is a non-fiction book about the 10 most famous battl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cover dir="d"/>
    <p:sndAc>
      <p:stSnd>
        <p:snd r:embed="rId2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book tells about the ten most famous battles of world war2. It tells about the battle of Stalingrad and the battle of Kursk [ It still is the battle with the most tanks in history]. This book tells who was in charge of the force attacking and weapons of war that were outstanding in the wa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cover dir="d"/>
    <p:sndAc>
      <p:stSnd>
        <p:snd r:embed="rId2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pic>
        <p:nvPicPr>
          <p:cNvPr id="401" name="Content Placeholder 3" descr="tiger at kursk.jpg"/>
          <p:cNvPicPr/>
          <p:nvPr/>
        </p:nvPicPr>
        <p:blipFill>
          <a:blip r:embed="rId2"/>
          <a:stretch/>
        </p:blipFill>
        <p:spPr>
          <a:xfrm>
            <a:off x="450720" y="1444680"/>
            <a:ext cx="3310200" cy="2573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book of 10 greatest battles.jpg"/>
          <p:cNvPicPr/>
          <p:nvPr/>
        </p:nvPicPr>
        <p:blipFill>
          <a:blip r:embed="rId3"/>
          <a:stretch/>
        </p:blipFill>
        <p:spPr>
          <a:xfrm>
            <a:off x="6477120" y="1905120"/>
            <a:ext cx="2286000" cy="3271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light anti aircraft colum.jpg"/>
          <p:cNvPicPr/>
          <p:nvPr/>
        </p:nvPicPr>
        <p:blipFill>
          <a:blip r:embed="rId4"/>
          <a:stretch/>
        </p:blipFill>
        <p:spPr>
          <a:xfrm>
            <a:off x="3048120" y="4038480"/>
            <a:ext cx="3268440" cy="266724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5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 recommend this book to Josh M. Because he is in young marines and would need this information because they had marines tactics. in some of these battles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cover dir="d"/>
    <p:sndAc>
      <p:stSnd>
        <p:snd r:embed="rId2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 can use this knowledge that if I need to lead a country through war that I could use some of these tactics to wi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 learned that and Germany attacked Britain and would’ve succeeded if Britain had not bombed Berli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cover dir="d"/>
    <p:sndAc>
      <p:stSnd>
        <p:snd r:embed="rId2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20:51:45Z</dcterms:created>
  <dc:creator>Owner</dc:creator>
  <dc:description/>
  <dc:language>en-US</dc:language>
  <cp:lastModifiedBy>Owner</cp:lastModifiedBy>
  <dcterms:modified xsi:type="dcterms:W3CDTF">2012-05-07T21:16:01Z</dcterms:modified>
  <cp:revision>4</cp:revision>
  <dc:subject/>
  <dc:title>World WAR2  TEN GREATEST BATTLES</dc:title>
</cp:coreProperties>
</file>